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26C1-DB06-47C7-8503-13712625BC2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9A91-D23C-4850-BACD-A76536DE80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CE34-2550-4F0B-B740-31BAF0FBBF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BF09-BA9F-46C1-AA8F-14D17DF086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301F-2EE3-40E2-AFB7-75C38D92A7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C12F-0405-48E8-826C-65869E9F19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BE0F-31B7-43CC-AA6C-AD61198296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28F5-9C93-4220-A541-8742EA253A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3225-E9AB-4EB4-973A-64692C9F5B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11C5-8030-4584-8864-7B2E8FE656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23EB-787E-4610-BE8E-C707771121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5F24-6FB2-46FD-83E3-E2579CDC90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6A6D-9E8B-4721-9000-3CE350B253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EB12-1BD2-497A-A5B0-8E50BA01C8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5525-B6D3-488E-953C-2690065F03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FB14-639E-4A16-8EAC-88C5B77DA7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8BDA-20BE-4C3C-9009-25AB450C7D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64EF-3527-4E46-B4F5-99F6CD641C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1B1C-6195-4237-9597-B318CE6ABC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1759-C3CD-4DE8-A026-79BB296C44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7D52-60CE-4DD0-ADE3-8382459234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422E-6921-4C0A-B6BC-C4439E53D3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C60B-97A2-4D28-8E19-21409A7664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6DD-29D4-4CF4-9E55-02BA37D6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E98-5E78-4C6F-95E9-1A733451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333-20DB-45C3-B94C-9E8B93D1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32A-D16C-414C-93CE-08A14152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83792-BDC8-4A4F-9397-2FFF4F3B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517CD-7CC5-4255-A3A3-1463905A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DD864-2236-4D52-A9E3-A8EF892A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3E430-0B50-4A41-94DD-CC66568A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E5AF6-3851-40EA-89F5-0644E906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34B15-3ADB-4C0F-85E0-B8B84ABC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5642D-0CE3-4DD3-A53D-7A9CB2FE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58A-7B71-45C9-ADAF-71ED2AE1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AD31A-6063-4952-9077-918CC860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83C09-6155-4ABE-9E20-9C1AFF0E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205FC-84EA-446C-96A1-DB8E5A58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0DC82-4996-40DE-9DC4-C513E50C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63B6A-885C-4ED5-97BF-0A77851D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EEC7-5B21-41F9-AC41-9E054EF7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C5F6-DDDF-4DE1-97B5-9C0F1972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5EDC-E7F5-4094-B2DF-2C6079AF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66387-9913-48B6-90AF-20610032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7207-7D43-4FD9-B8F6-D3463E9F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8EB-4BCE-4362-B3E5-98C2EB90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5F2E8-C68C-4BF1-BF31-826B5259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3FDF-E128-4F05-BDBF-587B8841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4F96-074C-48DA-91E5-67DE4646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CFE2-2CB8-4DE8-9051-607DBD03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344A-8622-49AD-86FF-5DC2672A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CE25-46F5-4BA8-8E61-451161DF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D797F-4C08-4A6B-8D19-0E6C0894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F313A3-4CD9-4F6F-B601-F6B81B27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E0641-CA19-49E4-81CB-AED48FC9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0C1C25-E5F5-48E2-AB81-7F60B973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714-05BF-4292-B27C-6EA4F847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D7CAF-CF51-4728-8634-56841A53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D23A6-DF4C-49AB-8DD5-D5D1CF95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10EE1-AE20-424F-B625-08486C07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2051F-8317-4A67-9FF5-B6B03A87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A8C99-E617-46F9-A000-6E53A7CE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77EDE-DDDD-452E-866A-114DBAAC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9E083-DB75-466C-A1EF-C2D86C53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110AD-1A0E-486F-82CA-F9DCD42C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69155-427D-4E48-9F16-F41DDA94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A1E-AB2D-4190-B543-8CADCAFD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5B7-1FB3-4EF6-A071-58D30A54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EF8-55BA-4491-8360-BA0643A3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7B0-8326-4A45-BE8D-EDA3524C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E40-8D9D-4BB3-BF76-AC45CB33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4E5E-1152-4676-A439-F471CD76BC21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78A8-4E01-4F75-A4BB-6B1E3F3AB5A4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62C6-E862-42E1-8FD0-00F834F114E8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6CCB-1FBB-4ACF-9522-8992A3B1C8A8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WordArt 5"/>
          <p:cNvGrpSpPr/>
          <p:nvPr/>
        </p:nvGrpSpPr>
        <p:grpSpPr>
          <a:xfrm>
            <a:off x="646200" y="950760"/>
            <a:ext cx="7675560" cy="2835360"/>
            <a:chOff x="646200" y="950760"/>
            <a:chExt cx="7675560" cy="2835360"/>
          </a:xfrm>
        </p:grpSpPr>
        <p:pic>
          <p:nvPicPr>
            <p:cNvPr id="178" name="WordArt 5" descr=""/>
            <p:cNvPicPr/>
            <p:nvPr/>
          </p:nvPicPr>
          <p:blipFill>
            <a:blip r:embed="rId1"/>
            <a:stretch/>
          </p:blipFill>
          <p:spPr>
            <a:xfrm>
              <a:off x="646200" y="950760"/>
              <a:ext cx="7675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85800" y="990720"/>
              <a:ext cx="7543800" cy="27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GE FRIGHT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Text Box 6"/>
          <p:cNvSpPr/>
          <p:nvPr/>
        </p:nvSpPr>
        <p:spPr>
          <a:xfrm>
            <a:off x="388620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ed By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ac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928E-917D-4A98-87A6-909930366DDC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Rectangle 6" descr=""/>
          <p:cNvPicPr/>
          <p:nvPr/>
        </p:nvPicPr>
        <p:blipFill>
          <a:blip r:embed="rId1"/>
          <a:stretch/>
        </p:blipFill>
        <p:spPr>
          <a:xfrm>
            <a:off x="590400" y="1762200"/>
            <a:ext cx="82616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685800" y="304920"/>
            <a:ext cx="7543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Causes of Stage Fright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Text Box 5" descr=""/>
          <p:cNvPicPr/>
          <p:nvPr/>
        </p:nvPicPr>
        <p:blipFill>
          <a:blip r:embed="rId1"/>
          <a:stretch/>
        </p:blipFill>
        <p:spPr>
          <a:xfrm>
            <a:off x="652320" y="1871640"/>
            <a:ext cx="7742520" cy="447372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0887-E979-459F-A3A0-00FB1E47497C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6ADD-D8CF-4F34-8208-5AA9FDD6AB60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Rectangle 6" descr=""/>
          <p:cNvPicPr/>
          <p:nvPr/>
        </p:nvPicPr>
        <p:blipFill>
          <a:blip r:embed="rId1"/>
          <a:stretch/>
        </p:blipFill>
        <p:spPr>
          <a:xfrm>
            <a:off x="560520" y="1749600"/>
            <a:ext cx="829152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Text Box 2"/>
          <p:cNvGrpSpPr/>
          <p:nvPr/>
        </p:nvGrpSpPr>
        <p:grpSpPr>
          <a:xfrm>
            <a:off x="566640" y="189000"/>
            <a:ext cx="7986960" cy="792000"/>
            <a:chOff x="566640" y="189000"/>
            <a:chExt cx="7986960" cy="792000"/>
          </a:xfrm>
        </p:grpSpPr>
        <p:pic>
          <p:nvPicPr>
            <p:cNvPr id="209" name="Text Box 2" descr=""/>
            <p:cNvPicPr/>
            <p:nvPr/>
          </p:nvPicPr>
          <p:blipFill>
            <a:blip r:embed="rId1"/>
            <a:stretch/>
          </p:blipFill>
          <p:spPr>
            <a:xfrm>
              <a:off x="566640" y="189000"/>
              <a:ext cx="79869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9480" y="30492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27 Tips for overcoming STAGE FRIGHT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Text Box 3"/>
          <p:cNvSpPr/>
          <p:nvPr/>
        </p:nvSpPr>
        <p:spPr>
          <a:xfrm>
            <a:off x="609480" y="1066680"/>
            <a:ext cx="7620120" cy="5640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Know your material – you are the EXPE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ractice your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Involve students, elicit student particip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earn the student names and use th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stablish your credibility ear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Use eye contact to establish rap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Take a course in public spea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xhibit your advance preparation (handouts, notes on board, audio/visu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nticipate potential problems and prepare respon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F39A-3F49-4527-AD07-E85274AEAC5A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09480" y="304920"/>
            <a:ext cx="784872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 Tips for overcoming STAGE FR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990720"/>
            <a:ext cx="8001000" cy="5450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 the classroom and needed equipment in   adva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 information about the group in adva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rive early and meet individuals, establish “friendly faces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x (breathe deeply, meditate, talk to yourself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are and outline and follow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 your appearance (dress comfortably, but appropriately, out dress your students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your own style – BE YOURSELF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your own words (don’t read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A5EE-9FC7-4DFD-B733-9D8AFFD22DCD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27 Tips for overcoming STAGE FRIGH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09480" y="1143000"/>
            <a:ext cx="7925040" cy="4703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Rest up so your physically and psychologically aler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ut yourself in the students shoes (what’s in it for them?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ssume the students are on your sid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rovide an overview of the pres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ccept some fear as being good (energizing vs. destructive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Identify your fears, controllable and uncontrollable, confront the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1E95-09CA-45A7-8829-06608097915A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27 Tips for overcoming STAGE FRIGH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1219320"/>
            <a:ext cx="7925040" cy="4755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Give special emphasis to the first five minute (super-preparation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Imagine yourself as a good speak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ractice responding to tough questions or situat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reate an informal atmosphere (don’t lock yourself behind the podium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9D08-95F6-451A-A457-C49CC2005C20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533520" y="30492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More Tips for Speak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533520" y="1371600"/>
            <a:ext cx="7924680" cy="157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ecide on your specific objectives first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efine Learning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ave a well developed Lesson 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33520" y="3200400"/>
            <a:ext cx="8001000" cy="2128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on’t Memorize, Don’t Read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udience can Te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ikely to be monotone and BO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Be  as Spontaneous as you c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AF29-DC40-4868-B87C-32F01A2CDA58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0" dur="1" fill="hold"/>
                                  <p:tgtEl>
                                    <p:spTgt spid="2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533520" y="304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More Tips for Speak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ext Box 3" descr=""/>
          <p:cNvPicPr/>
          <p:nvPr/>
        </p:nvPicPr>
        <p:blipFill>
          <a:blip r:embed="rId1"/>
          <a:stretch/>
        </p:blipFill>
        <p:spPr>
          <a:xfrm>
            <a:off x="378000" y="1285920"/>
            <a:ext cx="8169120" cy="1987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533520" y="3200400"/>
            <a:ext cx="8001000" cy="3097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y not to think about your hands and facial expression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 about what you want to get across, let your non-verbal communication take care of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cious attention leads to inhibitions and awkward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80D1-A9C5-48AA-AD7A-CE5F08B663FE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9" dur="1" fill="hold"/>
                                  <p:tgtEl>
                                    <p:spTgt spid="2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533520" y="304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More Tips for Speak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33520" y="1066680"/>
            <a:ext cx="7924680" cy="2859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Take it slow and easy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tudents must process the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Guide audience by emphasizing major and minor poi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Your focus is to help the students understand the information, not finish in record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09480" y="4114800"/>
            <a:ext cx="8001000" cy="2494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sk for advice and criticism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Not during the class…”How do you like me now?”  (Use course instructor evalu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If you know of a problem, you can work on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olicit frank criticism from someone you tru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7BA5-ADDE-44D7-A8D6-8C97E7E1A417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3" dur="1" fill="hold"/>
                                  <p:tgtEl>
                                    <p:spTgt spid="2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609480" y="1523880"/>
            <a:ext cx="7925040" cy="1312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Write out an example of Stage Fright you experienced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2239-E305-46B0-9A5B-C2770F201C37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609480" y="533520"/>
            <a:ext cx="8001000" cy="173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By being well prepared, and using the other techniques discuss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685800" y="2133720"/>
            <a:ext cx="7848720" cy="2239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STAGE FRIGH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will become nothing more than an inconvenien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F98E-82C6-4BF6-8431-8BBE51635888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685800" y="1981080"/>
            <a:ext cx="7620120" cy="1434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onstantia"/>
              </a:rPr>
              <a:t>Questions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1AB-B423-4537-85C9-8D41E64904DA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905120" y="38088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Bibliograph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09480" y="1219320"/>
            <a:ext cx="7925040" cy="2449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United States Department of Justice, Federal Bureau of Investigation, Instructor Development Cour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Taking the Terror out of Talk”, Michael T. Motley, 198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60A7-9D76-4659-80FA-9C005145F596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ext Box 2" descr=""/>
          <p:cNvPicPr/>
          <p:nvPr/>
        </p:nvPicPr>
        <p:blipFill>
          <a:blip r:embed="rId1"/>
          <a:stretch/>
        </p:blipFill>
        <p:spPr>
          <a:xfrm>
            <a:off x="146160" y="12600"/>
            <a:ext cx="8802720" cy="665640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BFD9-0D8A-4A0F-B87D-4FDDACF15479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A2CD-C305-44C7-9017-8A809279A497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Rectangle 6" descr=""/>
          <p:cNvPicPr/>
          <p:nvPr/>
        </p:nvPicPr>
        <p:blipFill>
          <a:blip r:embed="rId1"/>
          <a:stretch/>
        </p:blipFill>
        <p:spPr>
          <a:xfrm>
            <a:off x="804960" y="1749600"/>
            <a:ext cx="80470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33520" y="1523880"/>
            <a:ext cx="8001000" cy="3473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What is STAGE FRIGHT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Simpl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he fear or apprehension of public speak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BBFD-7959-4D94-92A9-0215FD452F9D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609480" y="533520"/>
            <a:ext cx="7772400" cy="467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The brain is that part of the human mechanism which begins to function at birth and stops when it’s owner gets up to deliver a public speech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anonymou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2975-7472-4A3C-B20B-9CD51B9DFDCE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09480" y="762120"/>
            <a:ext cx="784872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Of the general public, 85% fear public speaking more than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09480" y="2286000"/>
            <a:ext cx="7925040" cy="3764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Heigh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Ins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Dise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nak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inancial 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A853-D1CA-451F-8A47-3370CDDE111D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09480" y="1066680"/>
            <a:ext cx="7772400" cy="825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nstantia"/>
              </a:rPr>
              <a:t>It is virtually universa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609480" y="2438280"/>
            <a:ext cx="7848720" cy="1068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It effects some people more than other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E02F-40DD-45CF-AF7D-AD7E0037BDC5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609480" y="3049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Symptoms of Stage Frigh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1219320"/>
            <a:ext cx="7848720" cy="4909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weaty Pal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Butterfl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r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Increased Heart 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ry Mou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Flushed 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Rapid Labored Breath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igh Vo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ORONARY ARREST (this ain’t for you) 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58AB-3151-45F5-A43B-E9996C192E93}" type="slidenum">
              <a:rPr b="1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2:07:37Z</dcterms:created>
  <dc:creator>Texas Commision on Law Enfrocemen</dc:creator>
  <dc:description/>
  <dc:language>en-US</dc:language>
  <cp:lastModifiedBy>lbeard</cp:lastModifiedBy>
  <dcterms:modified xsi:type="dcterms:W3CDTF">2010-10-21T15:10:19Z</dcterms:modified>
  <cp:revision>39</cp:revision>
  <dc:subject/>
  <dc:title>Slide 1</dc:title>
</cp:coreProperties>
</file>