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FD5160-DE36-42E9-90AA-A309E699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31ED61-7673-408D-A781-DE22343129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74BA5F-F7B1-4EAE-A00D-C81F3ECBE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4BBE41-F617-44E7-A290-2A86DAAB98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36EBDC-502E-48E7-A8C7-C378585A88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E75206-EC63-4579-B992-81ACCE23F4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 – Examples:  Patrol Officer, Chief of Police, Sheriff, Special Agent, Corrections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Y – Example:  Corrections Officer (pos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ies: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ocess incoming priso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scorts inmates to and from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ovides 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– Examples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ocesses Incoming Prisoners (Du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risks-search pris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lace in holding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view commitment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graph priso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heck NCIC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STEP – Example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graph Prisoner (Ta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Step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.  Position prisoner in front of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.  Instruct prisoner to maintain 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.  Set I.D. plate in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.  Advance/install fil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.  Focus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6.  Press camera sh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7.  Log photo number in log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8.  Remove prisoner from photo are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E2983F-C2EA-43D0-A21E-1F9DFF5A6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051E91-7B41-48B7-8870-7A725C7541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358E78-02E5-4E12-8CA0-3CAFF37F9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E8AEDB-314D-4BDA-947C-DB9127CF1A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A87E90-13F5-4A8F-984A-090EF7BF21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BAEA70-A179-4DC4-8D1E-99D9A2C1BB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ACB8FB-E00F-46CA-878F-38D5D0C61A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DE0D25-973B-4E9B-ADC5-0284DA6C4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B692EB-2C2D-422B-BAAF-7C32A178FC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F17E34-A68B-4633-A9B5-1DE9D2F759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A67D4D-9233-4C71-820B-B1DD08F5AC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AD7E33-0F2F-40B2-87AD-778340BCF6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39AC51-2E34-4773-AEB2-802BAA2B27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CC9378-D6DD-4EDA-87D6-28BDEA91DD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ECFBF6-17B0-402B-AD71-4ABCBB1AC3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1ECE68-FF4C-465E-96BA-FF7959973A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19BB3F-5697-4142-81C8-7F6D39A056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0EEB2F-C3E0-437D-B2D4-8FB6E2F86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A9ADE6-C135-4959-9C4F-54266AE4EC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EB1-5D9D-48F3-8FCF-7B592D5D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A81-AD30-4738-B81B-7814D99C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B60-C9FE-428A-B2CF-28DD9A7F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132-0A15-4A2C-B4BE-45E76646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66E05-C961-46A1-BB93-9491E93B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3EFD2-9738-4D23-92CB-08A3BB37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A625B-A819-4CB9-AABE-99E7C8DC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4A630-AB53-4CF4-AE26-9D83D587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BD911-B7D6-43A4-853D-8B2C9E3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DB781-0BA4-4FFC-9596-2F923F73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3B88F-823F-47C8-807A-72F289EB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73B-8DCC-4012-8388-8C45520B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2CA35-A552-4D02-8234-340A6CCF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1F560-A7C6-4510-819C-CBBACA71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75B9-B20C-4D17-A8A6-292C9E48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1149A-A28A-4DEC-92DB-3167DCDF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FD3EF-DAD7-4873-B1D0-C4443275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4ED4-5D99-42AF-B679-56A7C881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422FF-F925-43EB-B792-F2CC6C1E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78A1-AFD4-4E02-9758-35D85F62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A1AE-A62E-42F1-8C1F-1864AE2A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B2A6-109F-48BF-A969-ABBF8841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C75-963C-4563-AA95-2B5537FA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F063-B78C-4BC9-B720-E64FD2A0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C235-3B0D-4C72-8C63-D58C4EF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4D5B-EBF6-4802-8539-39EE2E37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2D76-CC0B-46DB-BB2B-0A49BFFF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4A21-6C01-43B2-A4D0-98609982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9D11-D652-4439-9B4A-EC055632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00AF-E68C-4E2F-867F-CF63B410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B5591-BEA3-428D-8CBE-CC03DD06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82B0D-08DA-4E4F-A434-6DC6065D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4A4F2-9B25-40ED-87EA-3A2BDB9E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CDA-20B8-4523-8DFB-D5F0CE31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91466-9E73-4B03-96E2-3E83B821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21E06-3302-4FA7-8D19-63F7FCE2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9AB1E-2A15-4A6B-9DD2-E4D609C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5044E-E800-4B68-8BAD-73E89159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A9E41E-0DBE-49BA-8949-39A895F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D8595-B82C-4973-AA2F-ED1C90FC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82AB63-CF4D-400B-A9E5-2CB5E239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BC2D0-8A2F-44B5-9336-01D7D55D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82AFE-B974-46E5-8543-54027812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73A-BE8A-49AB-917D-C90BD1E9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FED-F914-43C2-9875-88DCED18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26E-7F14-486F-ADAA-22C76DD5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21C-50C8-45A8-8420-B8390E2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2F8-7D0D-4082-B417-3E307E0A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079-75BE-47F8-9846-B36B6FE2949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B5AF-4353-49A0-AB68-3C008B4CDBE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F116-781B-4239-9739-C79DF665774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3F03-CBA4-4727-8849-39BCC74D8F1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dvanced Instructor Cour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Task Analysis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mb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685800" y="1523880"/>
            <a:ext cx="6781680" cy="3423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Position Analysis –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escribes a position in terms of duties and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ask Analysis –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reaks each task (duty or position) into steps, identify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nstantia"/>
              </a:rPr>
              <a:t>skill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nstantia"/>
              </a:rPr>
              <a:t>knowledg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,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nstantia"/>
              </a:rPr>
              <a:t>attitude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required to perform each step prop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9" dur="1" fill="hold"/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2057400" y="1371600"/>
            <a:ext cx="5715000" cy="3018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sk Analysis is critical for designing performance-based trai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304920" y="53352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ASK ANALYSI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should include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85800" y="1371600"/>
            <a:ext cx="8305920" cy="2684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scription of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ditions under which task is per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tandard of acceptable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ime need to perform task and how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earning difficulty of the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85800" y="4267080"/>
            <a:ext cx="8153280" cy="1381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pecial equipment or materials needed for 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source information (texts, people, handouts, SOP’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2" dur="1" fill="hold"/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380880" y="533520"/>
            <a:ext cx="845820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Terms associated with TASK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219320" y="1219320"/>
            <a:ext cx="5867280" cy="2113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uty – broad area of responsibility for th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sition – job created in an organization, to fill identified need, which one or more workers must f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295280" y="3429000"/>
            <a:ext cx="5715000" cy="321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ask – specific, identifiable unit of work, has beginning and end, performed by one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ask Step – single physical or mental action performed as part of a series of actions needed to complete the task; smallest practical unit of work useful for deciding lesson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6" dur="1" fill="hold"/>
                                  <p:tgtEl>
                                    <p:spTgt spid="2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304920" y="457200"/>
            <a:ext cx="7238880" cy="2064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Position consists of duti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uties consist of task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asks consist of task ste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066680" y="3048120"/>
            <a:ext cx="4572000" cy="132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ask step        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662940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905120" y="4572000"/>
            <a:ext cx="487656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ask                  du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6858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590920" y="5257800"/>
            <a:ext cx="47242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ty                 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7238880" y="5486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3"/>
          <p:cNvSpPr/>
          <p:nvPr/>
        </p:nvSpPr>
        <p:spPr>
          <a:xfrm>
            <a:off x="2057400" y="1219320"/>
            <a:ext cx="4572000" cy="4495680"/>
          </a:xfrm>
          <a:prstGeom prst="ellipse">
            <a:avLst/>
          </a:prstGeom>
          <a:solidFill>
            <a:srgbClr val="dd7e0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380880" y="838080"/>
            <a:ext cx="2438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4343400" y="121932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2057400" y="3429000"/>
            <a:ext cx="457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6858000" y="990720"/>
            <a:ext cx="198108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u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7"/>
          <p:cNvSpPr/>
          <p:nvPr/>
        </p:nvSpPr>
        <p:spPr>
          <a:xfrm>
            <a:off x="4343400" y="3429000"/>
            <a:ext cx="2133720" cy="914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4343400" y="3429000"/>
            <a:ext cx="1295280" cy="1905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7391520" y="3276720"/>
            <a:ext cx="144756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rc 30"/>
          <p:cNvSpPr/>
          <p:nvPr/>
        </p:nvSpPr>
        <p:spPr>
          <a:xfrm flipV="1">
            <a:off x="4648320" y="3656880"/>
            <a:ext cx="228600" cy="2286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rc 31"/>
          <p:cNvSpPr/>
          <p:nvPr/>
        </p:nvSpPr>
        <p:spPr>
          <a:xfrm flipV="1">
            <a:off x="4876920" y="3809160"/>
            <a:ext cx="380880" cy="3812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rc 32"/>
          <p:cNvSpPr/>
          <p:nvPr/>
        </p:nvSpPr>
        <p:spPr>
          <a:xfrm flipV="1">
            <a:off x="5105520" y="3961800"/>
            <a:ext cx="457200" cy="5331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rc 33"/>
          <p:cNvSpPr/>
          <p:nvPr/>
        </p:nvSpPr>
        <p:spPr>
          <a:xfrm flipV="1">
            <a:off x="5334120" y="4190400"/>
            <a:ext cx="685800" cy="685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6705720" y="5562720"/>
            <a:ext cx="190476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ask St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457200" y="380880"/>
            <a:ext cx="8229600" cy="947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ASK STEP characteristics that need to be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28800" y="1219320"/>
            <a:ext cx="6477120" cy="501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quence of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Performan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kills needed to perform each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Knowledge needed to perform each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ttitude needed to perform each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533520" y="838080"/>
            <a:ext cx="8076960" cy="2043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Looking at TASK STEP characteristic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nstantia"/>
              </a:rPr>
              <a:t>skills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nstantia"/>
              </a:rPr>
              <a:t>knowledge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nstantia"/>
              </a:rPr>
              <a:t>attitude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help analyze the specific behaviors or skills needed to complete the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38080" y="3200400"/>
            <a:ext cx="5562720" cy="1800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Let’s look at what is needed for a patrol officer to complete the task of responding to an accident with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914400" y="5257800"/>
            <a:ext cx="5638680" cy="825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ASK: Responding to an injury accident (before and at the sce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304920" y="3049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Skills needed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80880" y="1905120"/>
            <a:ext cx="3657600" cy="3416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bility to operate equi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r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rst aid and medical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343400" y="1828800"/>
            <a:ext cx="4267080" cy="4528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alysis of scene and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raffic control (whistle sign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hot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eas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ke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terviewing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port 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2133720" y="228600"/>
            <a:ext cx="58672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Knowledge requir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20" y="1219320"/>
            <a:ext cx="3276360" cy="5169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oper attire to w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What equipment 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ow to operate the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est route to tra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raffic patterns at specific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mergency vehicle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Defensive driving tac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gency policy and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572000" y="1143000"/>
            <a:ext cx="4191120" cy="6401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adio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rst aid techniques and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dditional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ocedures for contacting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otection of scene and traffic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vidence gathering and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ow to identify, locate, separate, and interview wit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learing the accident sc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Destination of vehicles (after accid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raffic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Task Analysis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ted B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027"/>
          <p:cNvSpPr/>
          <p:nvPr/>
        </p:nvSpPr>
        <p:spPr>
          <a:xfrm>
            <a:off x="228600" y="304920"/>
            <a:ext cx="72388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ttitudes necessa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838080" y="1371600"/>
            <a:ext cx="5639040" cy="483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cern for safety of self and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elp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ofess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orough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mpar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2133720" y="1066680"/>
            <a:ext cx="5029200" cy="4341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ASK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elps instructors ensure they do not miss a key piece of information or skill necessary to perform the job tas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533520" y="60948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  ANALY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l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762120" y="2209680"/>
            <a:ext cx="6705360" cy="229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s keep instruction relevant to the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students why   information or practice is needed to perform job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609480" y="533520"/>
            <a:ext cx="579132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ASK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14400" y="1600200"/>
            <a:ext cx="7696080" cy="2531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s instructors in writing learning objectives with performances and standards that match those needed by the student to successfully complete the task or jo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838080" y="1447920"/>
            <a:ext cx="7467840" cy="3445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ASK ANALYSIS is a key function in the development of relevant learning objectives and lesson pl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051"/>
          <p:cNvSpPr/>
          <p:nvPr/>
        </p:nvSpPr>
        <p:spPr>
          <a:xfrm>
            <a:off x="380880" y="838080"/>
            <a:ext cx="84582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ASK ANALYSIS WORK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052"/>
          <p:cNvSpPr/>
          <p:nvPr/>
        </p:nvSpPr>
        <p:spPr>
          <a:xfrm>
            <a:off x="838080" y="1905120"/>
            <a:ext cx="6858000" cy="303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Position:     Patrol Offi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uty:          Firearms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ask: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       Field Strip and Cleaning of the Sig Sauer P226 9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2514600" y="2362320"/>
            <a:ext cx="5105520" cy="916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1523880" y="2286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IL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33520" y="1219320"/>
            <a:ext cx="7924680" cy="4989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or Development Course, U. S. Department of Justice, Federal Bureau of Investigation, April 19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Instructor Development, U. S. Department of Energy, Nonproliferation and National Security In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Webber: http://maxweber.hunter.cuny.edu/pub/eres/EDSPC715 MCINTYRE/TaskAnalysi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Please write out the steps performed in the task of Brushing your teeth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57200" y="380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the task:  Brushing Te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04920" y="1066680"/>
            <a:ext cx="32004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ck up tooth bru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t Bru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cap off the tu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t paste on bru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ush outside of bottom tee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ush outside of top tee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ush biting surface of bottom tee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ush biting surface of top tee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809880" y="1066680"/>
            <a:ext cx="51818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ush inside surface of bottom tee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ush inside surface of top tee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nse bru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 brush in 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sp c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l cup with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nse tee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 cup in 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pe m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ew cap back on tu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udent will be able to define task analys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udent will be able to list the terms associated with task analysis and define their relationship with the proces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tudent will complete a task analys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27"/>
          <p:cNvSpPr/>
          <p:nvPr/>
        </p:nvSpPr>
        <p:spPr>
          <a:xfrm>
            <a:off x="990720" y="380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TASK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1295280" y="990720"/>
            <a:ext cx="6858000" cy="4617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ost of the day to day tasks in which we engage (even without thinking) are really complex, comprised of ma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m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is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teps performed in a certain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426600" y="533520"/>
            <a:ext cx="609228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hat is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ASK ANALYS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1676520"/>
            <a:ext cx="6933960" cy="346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ASK – a specific piece or amount of work, usually assigned by another and often required or expected to be finished within a certain amount of ti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ALYSIS – a detailed examination of anything complex made in order to understand its nature or to determine its essential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"/>
          <p:cNvSpPr/>
          <p:nvPr/>
        </p:nvSpPr>
        <p:spPr>
          <a:xfrm>
            <a:off x="609480" y="53352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hat is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ASK ANALYS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523880" y="1752480"/>
            <a:ext cx="7467840" cy="1818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formance requireme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523880" y="4038480"/>
            <a:ext cx="6019920" cy="1556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 put, provides a detailed “picture” of the job or task to be tr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457200" y="457200"/>
            <a:ext cx="8305920" cy="2531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ask Analysis is a systematic method of listing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nstantia"/>
              </a:rPr>
              <a:t>all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 tasks necessary to competently do a specific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62120" y="3581280"/>
            <a:ext cx="6324480" cy="2531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t represents the foundation on which you build performance-based learning objectives, course content, and eval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5:41:29Z</dcterms:created>
  <dc:creator>Texas Commision on Law Enfrocemen</dc:creator>
  <dc:description/>
  <dc:language>en-US</dc:language>
  <cp:lastModifiedBy>lbeard</cp:lastModifiedBy>
  <dcterms:modified xsi:type="dcterms:W3CDTF">2010-10-21T14:59:50Z</dcterms:modified>
  <cp:revision>71</cp:revision>
  <dc:subject/>
  <dc:title>PowerPoint Presentation</dc:title>
</cp:coreProperties>
</file>