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CBAC-2068-4439-9AE3-5288C1A43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F302-C0CC-41D6-9975-6E7E6347A9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292C-B323-4229-9A28-83460876D5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6A0C-34BE-49E8-83E6-AF731E1E0B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.  Performance Deficiency i.e. the proble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.  Is it important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o:  Ignore i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Yes: Go to question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.Is it a skill deficiency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o:  You have a management problem.  Go to question 8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Yes:  You have a training problem.  Go to question 4 or 6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s there a simpler way to do the job?  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Will one-on-one on-the-job training work better? Could less costly change in equipment, procedures, or work environment make a difference? (auto focus camera instead of manual; checklist instead of having performer remembe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No: go to question 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Yes:  Use simpler solut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5.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o problem performers have the POTENTIAL to do the job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o:  Either transfer the employee to positions that will use their strengths or document their problems and fire the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Yes:  Go to question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6.  Did they used to do it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o:  Arrange formal train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Yes: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o to question 7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7.  Do they do the performance often?  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Example write reports or use the radi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o:  Arrange practice of the performance or skill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Yes:  Arrange feedback to the perform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s good performance Punishing?  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Does the officer who consistently handles complex jobs well get saddled with more and more complex jobs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o:  Go to question 9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Yes:  Link desirable consequences to the performance now being punish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s non-performance rewarding?  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Officers who strive to excel risk occasional failure while mediocre officers may never risk anything and get promoted because of their “clean” recor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o:  Go to question 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Yes:  Start rewarding only officers that excel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.  Does performance matter?  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Does it make a positive or negative difference?  Do all officers get paid regardless of performance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o: Arrange negative consequences for the poor performe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Yes:  Go to question 1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e there obstacles to performing?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 Are students/officers consistently interrupted?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Are they pulled off task to do other jobs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o:  Go back to question 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Yes:  Identify and remove the obstacl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343-478E-4EE5-9948-64CE759E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32C-B4B3-49D4-8D60-AC53F7E9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E8F-4A64-4DBB-808D-8A370673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574-BC2E-4055-94D9-5A1DE119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51648-F64B-4C19-81D2-98FE806C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640AE-07B8-4C29-9031-E7D0A315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F7602-6613-467A-A12A-531D5C38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216F8-A985-48F5-9AD8-8326EF7F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228AA-7BD7-46A2-8543-6CA3AB5E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AE37C-EF9B-48A0-AF42-AFEADAF3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8585E-B7F4-46B5-A365-DA941D83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E48-13F0-4762-97CD-7C251499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F7F37-DDB4-465D-BE22-563B1E2A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0E1EA-EB49-4FEC-BFA6-FDAA0768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A1A87-C2A0-4EA6-B58A-154D578D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51E13-AEC0-4844-B1B3-A371BC24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CBDBD-82F1-4B69-A114-0E5EB60C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93EE-250C-4A1D-9EB9-B3F88755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2362-70D9-423E-A4AF-A26D67D0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D66E-4622-4076-A24A-C25B43B1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B462-BCD7-4CC6-9272-D307D4E5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282C-217B-488C-9ECB-0B9103FE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5F7-93A9-49F6-A72E-3CA0099E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6F92-CCC9-4655-AD84-C8B8E414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39CE-D627-497D-8FEC-12D29047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4026-A2BA-47A2-A456-A28F3A46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0B99-5724-4C5F-9B9C-7908CFEF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FA05-F740-4AEA-946C-B6F9F24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C1AB-E934-478D-8EAE-4B19A4A3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6C17-4C64-4A5E-9F2D-A516B515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849FC-4CA1-424F-9B9A-8F0CAAD7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FAC46-34C9-47B9-A920-67355007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5F4EA-E8EE-4319-A715-1F2F1177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073-3CF0-489A-8CF7-E2A4792A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E27DA1-743B-4A32-85B5-DB8BD23C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E2C4B-45C9-4D2B-ACCB-4675EFCD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80B83-F7A4-4851-83E3-33A5C7FB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7EA00-3B13-43B1-A0D8-FC2DE474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FDE5A-642D-4872-8EFF-CFA9D0F1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BB7895-B7A7-4283-9DEF-7CD6B5F1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BCDE2-A1BB-47CD-A785-02E53E92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FACDAD-3880-4DB3-B8AA-601DA205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78DE3-C6E2-4465-8023-D6E6CEAA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A5F-0145-4CE9-B6D6-39757FAE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194-90BF-4425-833C-5A147924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28C-E7D9-4092-A83D-15BC526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44C-67BE-4B9F-9DB5-176EF49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A5D-6A14-4A31-9066-7FD68866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D6B0-4488-4AFC-9680-475676A2526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F63-9157-4994-B398-1C8997B9433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DB9D-496B-4703-AFBC-F4F048B9E79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3FA0-6946-45EC-BF10-2EFE69A2F2C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Advanced Instructor Cour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 other word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need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is the difference between how things should be and how they are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Unfortunately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rainers and their agencies often measure performance on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ow many program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ow many stude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ow many training hou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stead of effectiveness of the train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raining should be performance-based, designed to help solve on-the-job performance problem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raining should address a task or skill that has shown a training need due to a performance problem or deficiency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rformance problems happen when the student or employee lacks knowledge and skill needed to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mprove current performanc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dvance to next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erform a new skill or tas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o ensure that training is making a measurable performance difference for the task, skill or  job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rainers should evaluate their training programs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 need assessment is often overlooked as the first step in the process of improving training to reach the desired performance level of a skill or task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OB STANDARD – INDIVIDUAL’S KNOWLEDGE, SKILL, OR ATTITU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QUA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TRAINING NE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urces for identifying training nee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uperviso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itizen complai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eport review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urt cas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ivil sui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ew equipm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arge staff turnov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hanges in work for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are we trying to go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?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we going the right way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24256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6 Steps in Need Assessment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2520" indent="-452520">
              <a:spcBef>
                <a:spcPts val="1624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training is needed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2520" indent="-452520">
              <a:spcBef>
                <a:spcPts val="1624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y is it needed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2520" indent="-452520">
              <a:spcBef>
                <a:spcPts val="1624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o needs to be trained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2520" indent="-452520">
              <a:spcBef>
                <a:spcPts val="1624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will the training content be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2520" indent="-452520">
              <a:spcBef>
                <a:spcPts val="1624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are the timing issue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2520" indent="-452520">
              <a:spcBef>
                <a:spcPts val="1624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re will the training be give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3"/>
          <p:cNvSpPr/>
          <p:nvPr/>
        </p:nvSpPr>
        <p:spPr>
          <a:xfrm>
            <a:off x="2057400" y="990720"/>
            <a:ext cx="1828800" cy="563868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998280 h 5638680"/>
              <a:gd name="textAreaBottom" fmla="*/ 4076280 h 563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50" stAng="-5400000" swAng="-5400000"/>
                <a:lnTo>
                  <a:pt x="0" y="11790"/>
                </a:lnTo>
                <a:arcTo wR="21600" hR="7650" stAng="10800000" swAng="-2702979"/>
                <a:lnTo>
                  <a:pt x="14400" y="21162"/>
                </a:lnTo>
                <a:lnTo>
                  <a:pt x="21600" y="17370"/>
                </a:lnTo>
                <a:lnTo>
                  <a:pt x="14400" y="12702"/>
                </a:lnTo>
                <a:lnTo>
                  <a:pt x="14400" y="14862"/>
                </a:lnTo>
                <a:arcTo wR="21600" hR="7650" stAng="8097021" swAng="2361886"/>
                <a:lnTo>
                  <a:pt x="806" y="9720"/>
                </a:lnTo>
                <a:arcTo wR="21600" hR="7650" stAng="-10458907" swAng="5058907"/>
                <a:close/>
              </a:path>
              <a:path fill="darkenLess" w="21600" h="21600">
                <a:moveTo>
                  <a:pt x="21600" y="0"/>
                </a:moveTo>
                <a:arcTo wR="21600" hR="7650" stAng="-5400000" swAng="-5400000"/>
                <a:lnTo>
                  <a:pt x="0" y="7650"/>
                </a:lnTo>
                <a:arcTo wR="21600" hR="7650" stAng="10800000" swAng="-341093"/>
                <a:lnTo>
                  <a:pt x="806" y="9720"/>
                </a:lnTo>
                <a:arcTo wR="21600" hR="7650" stAng="-10458907" swAng="5058907"/>
                <a:close/>
              </a:path>
            </a:pathLst>
          </a:custGeom>
          <a:solidFill>
            <a:srgbClr val="f3a4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553080" y="990720"/>
            <a:ext cx="1676520" cy="571500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1000080 h 5715000"/>
              <a:gd name="textAreaBottom" fmla="*/ 4143600 h 571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3a4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3962520" y="228600"/>
            <a:ext cx="2361960" cy="1447920"/>
          </a:xfrm>
          <a:prstGeom prst="ellipse">
            <a:avLst/>
          </a:prstGeom>
          <a:solidFill>
            <a:srgbClr val="f3a4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ance Deficien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657600" y="533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45"/>
          <p:cNvSpPr/>
          <p:nvPr/>
        </p:nvSpPr>
        <p:spPr>
          <a:xfrm>
            <a:off x="4191120" y="1905120"/>
            <a:ext cx="1981080" cy="1295280"/>
          </a:xfrm>
          <a:prstGeom prst="diamond">
            <a:avLst/>
          </a:prstGeom>
          <a:solidFill>
            <a:srgbClr val="f3a4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6"/>
          <p:cNvSpPr/>
          <p:nvPr/>
        </p:nvSpPr>
        <p:spPr>
          <a:xfrm>
            <a:off x="4267080" y="2362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7"/>
          <p:cNvSpPr/>
          <p:nvPr/>
        </p:nvSpPr>
        <p:spPr>
          <a:xfrm>
            <a:off x="5181480" y="1676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8"/>
          <p:cNvSpPr/>
          <p:nvPr/>
        </p:nvSpPr>
        <p:spPr>
          <a:xfrm>
            <a:off x="44956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9"/>
          <p:cNvSpPr/>
          <p:nvPr/>
        </p:nvSpPr>
        <p:spPr>
          <a:xfrm>
            <a:off x="4419720" y="3352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gn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0"/>
          <p:cNvSpPr/>
          <p:nvPr/>
        </p:nvSpPr>
        <p:spPr>
          <a:xfrm>
            <a:off x="4191120" y="3352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51"/>
          <p:cNvSpPr/>
          <p:nvPr/>
        </p:nvSpPr>
        <p:spPr>
          <a:xfrm>
            <a:off x="4114800" y="3505320"/>
            <a:ext cx="2133720" cy="1218960"/>
          </a:xfrm>
          <a:prstGeom prst="diamond">
            <a:avLst/>
          </a:prstGeom>
          <a:solidFill>
            <a:srgbClr val="f3a4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52"/>
          <p:cNvSpPr/>
          <p:nvPr/>
        </p:nvSpPr>
        <p:spPr>
          <a:xfrm>
            <a:off x="518148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3"/>
          <p:cNvSpPr/>
          <p:nvPr/>
        </p:nvSpPr>
        <p:spPr>
          <a:xfrm>
            <a:off x="4419720" y="37339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ll de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4"/>
          <p:cNvSpPr/>
          <p:nvPr/>
        </p:nvSpPr>
        <p:spPr>
          <a:xfrm>
            <a:off x="6705720" y="3886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55"/>
          <p:cNvSpPr/>
          <p:nvPr/>
        </p:nvSpPr>
        <p:spPr>
          <a:xfrm>
            <a:off x="6248520" y="4114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6"/>
          <p:cNvSpPr/>
          <p:nvPr/>
        </p:nvSpPr>
        <p:spPr>
          <a:xfrm>
            <a:off x="6248520" y="49528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PUNISH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7"/>
          <p:cNvSpPr/>
          <p:nvPr/>
        </p:nvSpPr>
        <p:spPr>
          <a:xfrm>
            <a:off x="617220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8"/>
          <p:cNvSpPr/>
          <p:nvPr/>
        </p:nvSpPr>
        <p:spPr>
          <a:xfrm>
            <a:off x="6095880" y="5105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 punis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5943600" y="51814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performance reward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0"/>
          <p:cNvSpPr/>
          <p:nvPr/>
        </p:nvSpPr>
        <p:spPr>
          <a:xfrm>
            <a:off x="624852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71"/>
          <p:cNvSpPr/>
          <p:nvPr/>
        </p:nvSpPr>
        <p:spPr>
          <a:xfrm>
            <a:off x="6248520" y="5029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nge positive con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2"/>
          <p:cNvSpPr/>
          <p:nvPr/>
        </p:nvSpPr>
        <p:spPr>
          <a:xfrm>
            <a:off x="6248520" y="50292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matt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73"/>
          <p:cNvSpPr/>
          <p:nvPr/>
        </p:nvSpPr>
        <p:spPr>
          <a:xfrm>
            <a:off x="6248520" y="5029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4"/>
          <p:cNvSpPr/>
          <p:nvPr/>
        </p:nvSpPr>
        <p:spPr>
          <a:xfrm>
            <a:off x="6248520" y="5257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75"/>
          <p:cNvSpPr/>
          <p:nvPr/>
        </p:nvSpPr>
        <p:spPr>
          <a:xfrm>
            <a:off x="6248520" y="5105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nge con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76"/>
          <p:cNvSpPr/>
          <p:nvPr/>
        </p:nvSpPr>
        <p:spPr>
          <a:xfrm>
            <a:off x="624852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tac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77"/>
          <p:cNvSpPr/>
          <p:nvPr/>
        </p:nvSpPr>
        <p:spPr>
          <a:xfrm>
            <a:off x="63244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78"/>
          <p:cNvSpPr/>
          <p:nvPr/>
        </p:nvSpPr>
        <p:spPr>
          <a:xfrm>
            <a:off x="6324480" y="5105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 obsta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79"/>
          <p:cNvSpPr/>
          <p:nvPr/>
        </p:nvSpPr>
        <p:spPr>
          <a:xfrm>
            <a:off x="25146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80"/>
          <p:cNvSpPr/>
          <p:nvPr/>
        </p:nvSpPr>
        <p:spPr>
          <a:xfrm flipH="1">
            <a:off x="3657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1"/>
          <p:cNvSpPr/>
          <p:nvPr/>
        </p:nvSpPr>
        <p:spPr>
          <a:xfrm>
            <a:off x="1828800" y="5257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do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182880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83"/>
          <p:cNvSpPr/>
          <p:nvPr/>
        </p:nvSpPr>
        <p:spPr>
          <a:xfrm>
            <a:off x="1828800" y="5105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nge formal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84"/>
          <p:cNvSpPr/>
          <p:nvPr/>
        </p:nvSpPr>
        <p:spPr>
          <a:xfrm>
            <a:off x="18288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85"/>
          <p:cNvSpPr/>
          <p:nvPr/>
        </p:nvSpPr>
        <p:spPr>
          <a:xfrm>
            <a:off x="1828800" y="5181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of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86"/>
          <p:cNvSpPr/>
          <p:nvPr/>
        </p:nvSpPr>
        <p:spPr>
          <a:xfrm>
            <a:off x="1828800" y="5181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87"/>
          <p:cNvSpPr/>
          <p:nvPr/>
        </p:nvSpPr>
        <p:spPr>
          <a:xfrm>
            <a:off x="182880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nge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88"/>
          <p:cNvSpPr/>
          <p:nvPr/>
        </p:nvSpPr>
        <p:spPr>
          <a:xfrm>
            <a:off x="18288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89"/>
          <p:cNvSpPr/>
          <p:nvPr/>
        </p:nvSpPr>
        <p:spPr>
          <a:xfrm>
            <a:off x="182880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ng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90"/>
          <p:cNvSpPr/>
          <p:nvPr/>
        </p:nvSpPr>
        <p:spPr>
          <a:xfrm>
            <a:off x="182880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r w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91"/>
          <p:cNvSpPr/>
          <p:nvPr/>
        </p:nvSpPr>
        <p:spPr>
          <a:xfrm>
            <a:off x="182880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2"/>
          <p:cNvSpPr/>
          <p:nvPr/>
        </p:nvSpPr>
        <p:spPr>
          <a:xfrm>
            <a:off x="762120" y="5715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j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3"/>
          <p:cNvSpPr/>
          <p:nvPr/>
        </p:nvSpPr>
        <p:spPr>
          <a:xfrm>
            <a:off x="3886200" y="57150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nge on-job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94"/>
          <p:cNvSpPr/>
          <p:nvPr/>
        </p:nvSpPr>
        <p:spPr>
          <a:xfrm>
            <a:off x="1828800" y="510552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95"/>
          <p:cNvSpPr/>
          <p:nvPr/>
        </p:nvSpPr>
        <p:spPr>
          <a:xfrm>
            <a:off x="182880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potent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96"/>
          <p:cNvSpPr/>
          <p:nvPr/>
        </p:nvSpPr>
        <p:spPr>
          <a:xfrm>
            <a:off x="2362320" y="5257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97"/>
          <p:cNvSpPr/>
          <p:nvPr/>
        </p:nvSpPr>
        <p:spPr>
          <a:xfrm>
            <a:off x="1981080" y="50292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 or ter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98"/>
          <p:cNvSpPr/>
          <p:nvPr/>
        </p:nvSpPr>
        <p:spPr>
          <a:xfrm>
            <a:off x="4038480" y="4876920"/>
            <a:ext cx="2286000" cy="1371600"/>
          </a:xfrm>
          <a:prstGeom prst="ellipse">
            <a:avLst/>
          </a:prstGeom>
          <a:solidFill>
            <a:srgbClr val="f3a4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9"/>
          <p:cNvSpPr/>
          <p:nvPr/>
        </p:nvSpPr>
        <p:spPr>
          <a:xfrm>
            <a:off x="4114800" y="52578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best solution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00"/>
          <p:cNvSpPr/>
          <p:nvPr/>
        </p:nvSpPr>
        <p:spPr>
          <a:xfrm>
            <a:off x="4038480" y="5181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solution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1"/>
          <p:cNvSpPr/>
          <p:nvPr/>
        </p:nvSpPr>
        <p:spPr>
          <a:xfrm>
            <a:off x="15228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lyzing Performance Problems: Or you Really Oughta Wanna, 2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ed. by Robert Mager and Peter Pi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OB STANDARD – INDIVIDUAL’S KNOWLEDGE, SKILL, OR ATTITU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QUA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TRAINING NE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Jumping into training without conducting a need assessment can cause unwanted or un-needed training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need assessment helps the trainer find out if the student CAN’T DO the required performance or simply WON’T DO i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the student can’t do it, training becomes an op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the student won’t do it, training is a waste of tim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ducting training without a need assessment may keep the trainer from addressing the real need or performance problem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ibliograp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structor Development Course, U.S. Department of Justice, Federal Bureau of Investigation, April 1999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Organization for Security and Cooperation in Europe, Mission in Kosovo, Kosovo police Service School, Instructor Developme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raining for Staff Trainers, Correctional Services Corporation, Youth Services International, Larry Flanaga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ducting a Training Needs Assessment; Jeannette Swist, CMC, SPH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Analyzing Performance Problems: Or You Really Oughta Wann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Robert Mager and Peter Pipes, Lake Publishing Company, Belmont, CA, 198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arning Objectiv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udent will be able to define need assessme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udent will be able to list six steps in a need assessme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udent will be able to use the Mager and Pipe’s chart to determine the amount and type of traini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ve you ever heard thi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y are not doing it the way they are supposed to!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e’ve got a training problem!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ten, these statements are only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symptoms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 a proble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performance problem must be understood before a solution can be fou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oo often training is considered the first solution to performance problems rather than the las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Yet training is time consuming and costly and should be considered only after analyzing the performance problem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 need assessment is a planning process focusing on identifying and solving a skill or task performance deficiency or problem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nstantia"/>
              </a:rPr>
              <a:t>need assessment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is a way of identifying  the causes of differences between the desired performance and the actual performance, and may help determine the best method to address the issue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f there is a difference between “what is” and “what ought to be”, there is a training gap that needs to be close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need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nstantia"/>
              </a:rPr>
              <a:t>differenc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between a “desired” level of performance and the “actual” level of performanc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0:57:15Z</dcterms:created>
  <dc:creator>Texas Commision on Law Enfrocemen</dc:creator>
  <dc:description/>
  <dc:language>en-US</dc:language>
  <cp:lastModifiedBy>lbeard</cp:lastModifiedBy>
  <dcterms:modified xsi:type="dcterms:W3CDTF">2010-10-26T14:12:14Z</dcterms:modified>
  <cp:revision>14</cp:revision>
  <dc:subject/>
  <dc:title>Texas Commission on  Law Enforcement</dc:title>
</cp:coreProperties>
</file>