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B010-95E0-498C-9D86-AADFA07DB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FB01-77AC-40AF-9B9D-502776F135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4F07-D977-46AD-A95D-D64B52ED2E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8E39-A80E-48D2-88DF-EEFFE291E6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701A-8059-4107-9815-E6AFEAC76A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58FE-2B5F-4269-807D-6AAD474C6E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E6E5-8DEE-4817-AA45-BBDF460722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8943-D959-41AE-A769-4213047CE8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7B4-7791-455D-8E0E-26FE92E8DB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7ED9-FFFC-4411-B491-9CD1737713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7098-1E41-49F9-9DF3-346F6E3624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D41F-9BDF-43FF-A67E-CA309ABD65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A0D0-CB91-4E27-8F75-BCCA2E669D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B933-F182-4A79-A290-371EDA4F73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A0C7-B39A-446A-B284-5526E00E07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2B5E-288A-4F30-ABCF-7DC8B9BDE6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D812-05CF-4B00-BBF2-7F652C45EC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C1EB-8A26-457B-B62E-2C68C2D589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7723-F5AA-487C-A7B8-41ABAEDB2C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0C9C-270E-4BFA-B838-22902749F2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BDEC-DC4F-4F30-BD33-35521F0B94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07D4-B60B-46FA-B152-55EB393F93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893A-A5DA-4E16-87F0-7131B59FA7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0339-A889-46A9-9B7D-328ED11F83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0D1C-10F8-4C27-9A7F-72E5F0FE28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C70A-ADDC-4822-82B6-8954827A9B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D811-FFC4-4BB4-B4AE-EAE3B78F8F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C87-7D05-4394-A82A-4DF49BBB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636-2C5E-4A74-AB66-0CDF6875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CEB-9C60-4A65-9B16-D87A6512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5E0-930B-46D8-9357-19FBCC57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512D7-0A78-4F04-AF9F-D4BC2659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652B9-5090-489A-B659-5F7D3F2D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9BD69-96DF-4E90-B6AE-B2B26CD1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25456-28F0-434D-A679-82B89184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710E1-5A84-441E-98EF-CD39FF91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86F02-B1FB-40A7-9120-3C200795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91A5A-E3FE-4197-A948-2C79F74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235-80AF-4EA0-8758-6E530715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AABFE-BCB3-4C92-A807-B36724BB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C2EB9-FFA1-40D5-9344-8B619EC1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96398-B811-4C60-9A9E-CE418BC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C1D5D-776D-4649-927A-881886D7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1BAE1-CCAE-40FB-9867-69C918DC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58C7-8AF9-465C-B04F-CE2A6A1A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5F7B-A2D9-40A9-8281-63C00EBB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2A39-E0A1-41F4-9511-24191CDE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33E4-CA96-4735-AFF2-16D7F96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F425-D982-4939-94BB-600B430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A19-DC00-41E2-A131-DEF0908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3843-B239-46BB-B577-1C8E2D4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76B5-1518-46F6-A45F-248CBA01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7EB05-9B71-48E1-B506-303D8AC8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502D-C3AA-461D-B71E-4BCBA6B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E537-4A0B-49E5-85E6-53209422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12B4-D486-437A-9760-CE87B1E1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A68D-1A5E-4D51-B2F0-1B813001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35634-C3A0-427F-AD05-718FC561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BC4B0-C59D-4FB3-99FB-B170601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291BC-CCA9-48FF-AFFF-3F424034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0B0-852D-4590-985F-CD6D7B50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2909E4-4C07-4B2C-AC8E-24812783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E7A3E-AB4F-4312-96FD-5355E9B1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2523B-7580-4B00-AFFD-2996E371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70A52-EC60-4878-B6BD-4A1B43B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0030D-7BB0-4A52-993A-8B672359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FCB1B5-E7BE-4A66-8018-CA75F85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8D5C4-B9A8-428E-901F-7FBA95D8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04B7E-CAA4-4D94-BAC7-2CC9A568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05C30-5BB7-47AF-871C-683F6E69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C05-02F7-4154-8654-A72A9912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EAE-EDD3-4B0D-8111-DC93F5EA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FBD-7114-498A-BFC8-AD5B8EE0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719-798A-434B-84A1-4DFC15E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531-E497-4B68-8E6A-888ABDA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BE6C-0ACD-4A48-828E-FB0F07A7A64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291C-A77E-4A83-8F9B-7398B050872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E533-B5F9-4BC0-A3BA-B75F620FED1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044F-0827-4403-A313-2CEB0D791D1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dvanced Instructor Cour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6.2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Learning Objective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nstantia"/>
              </a:rPr>
              <a:t>List criteria for solving unwanted student behavior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84F5-0582-4F19-A4CC-FEDCC17895EB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80880" y="609480"/>
            <a:ext cx="8305920" cy="173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nstantia"/>
              </a:rPr>
              <a:t>Effectively solving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nstantia"/>
              </a:rPr>
              <a:t>unwanted student behavior</a:t>
            </a:r>
            <a:r>
              <a:rPr b="0" i="1" lang="en-US" sz="3600" spc="-1" strike="noStrike">
                <a:solidFill>
                  <a:srgbClr val="ffffff"/>
                </a:solidFill>
                <a:latin typeface="Constantia"/>
              </a:rPr>
              <a:t> requires the instructor to meet three criteria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28600" y="2819520"/>
            <a:ext cx="8686800" cy="340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Maintain the learner’s self esteem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Avoid further disruption to learning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Eliminate or minimize the behavio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2F9F-6BD1-4911-9E14-6DE7FB0B12B3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33520" y="457200"/>
            <a:ext cx="7696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Overly Talkati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04920" y="990720"/>
            <a:ext cx="2971800" cy="5435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be “eager beaver” or showoff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be well informed and anxious to show his/her knowledg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be naturally talkat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352680" y="990720"/>
            <a:ext cx="5791320" cy="5259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on’t be embarrassing or sarcastic, you may need them lat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low them down with some difficult ques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Interrupt with: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That’s interesting, class what do you think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et the group take care of him as much as possi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8C40-950E-4A65-9FA0-0BC59F30032C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57200" y="5335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ly Argumentati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57200" y="1371600"/>
            <a:ext cx="2514600" cy="4322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mbative personality—heckl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normally be good natured, but upset by problem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200400" y="1219320"/>
            <a:ext cx="5791320" cy="5259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Keep your own temper in check...don’t let the class get excited eith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nd merit in one of their points…express agreement…then move 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en they make an obvious misstatement, toss it to the group…let them turn it dow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646D-0414-4E34-BABF-18B86F45BE7B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457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Quick and Helpfu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57200" y="1676520"/>
            <a:ext cx="2514600" cy="322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ally trying to help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keep others from participating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581280" y="1676520"/>
            <a:ext cx="5562720" cy="3972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ypass them tactfully by calling on oth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ank them, then suggest letting others respon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se them for summarization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C008-1DBB-45AE-A57A-34584FA88217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Arial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57200" y="5335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Rambl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57200" y="1295280"/>
            <a:ext cx="2514600" cy="4147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alks about everything except the subjec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ses far fetched analogi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ts lo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124080" y="1371600"/>
            <a:ext cx="5791320" cy="4786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en they stop for a breath, thank them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Refocus their attention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y restating relative points and move 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mile, tell them their point is interesting, point to visual aid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in a friendly way indicate “we are off the subjec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”  </a:t>
            </a:r>
            <a:r>
              <a:rPr b="0" i="1" lang="en-US" sz="2000" spc="-1" strike="noStrike">
                <a:solidFill>
                  <a:srgbClr val="f3a447"/>
                </a:solidFill>
                <a:latin typeface="Constantia"/>
              </a:rPr>
              <a:t>(Remember body language says more than words do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ast resort, glance at your watc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948B-AA42-4F88-A31D-97B8FD621CC4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45720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ersonality Cla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228600" y="1219320"/>
            <a:ext cx="2819520" cy="5435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wo or more members clas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ash between instructor &amp; stud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structive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can divide your class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to opposite fa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200400" y="1219320"/>
            <a:ext cx="5791320" cy="4894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mphasize points of agreeme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inimize points of disagreeme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raw attention to the object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sk a direct question on the subject topi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ring an unbiased member into the discuss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rankly ask that personalities be set asid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E2B6-6563-46C6-AE0E-3B9A13198E3A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5335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Obstin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57200" y="1295280"/>
            <a:ext cx="2514600" cy="4162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on’t budg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rejudic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sn’t or won’t see your poi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52680" y="1143000"/>
            <a:ext cx="5791320" cy="4338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row their view out to the group.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Let them straighten them ou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ell them time is short, you will be glad to discuss with them lat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ggest they accept the group viewpoint for the mome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9E60-8655-42F6-BAF2-CF374222C599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Arial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57200" y="5335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Wrong Subje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57200" y="1295280"/>
            <a:ext cx="2514600" cy="2494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t RAMBLING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ff topic being discuss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657600" y="1219320"/>
            <a:ext cx="5486400" cy="3225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ake blame:  “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I must have said something that led you off the subject.”  “We should be discussing…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on’t embarrass the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0079-2B3C-4A1D-B8F7-895E221D2BBB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457200" y="5335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Side Convers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57200" y="1066680"/>
            <a:ext cx="2514600" cy="4894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be related to the subjec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be person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istracts cla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and you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124080" y="1066680"/>
            <a:ext cx="6019920" cy="5610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all on one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students involved in side conversatio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nd ask an easy ques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all on one of the students involved in side conversation and restate the last opinion or response, and ask their opin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f you habitually move around the room, stand casually behind the students talking.  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Should not be obvious to the clas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A571-1C20-411F-9D7A-6C6BF81B2373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Unit # 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181" name="Slide Number Placeholder 1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067-A1A2-4E20-9316-34939C26DF1A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457200" y="5335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Inarticu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457200" y="1219320"/>
            <a:ext cx="2514600" cy="4703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acks ability to put thoughts in proper word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ts the idea, but can’t convey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eeds help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52680" y="1219320"/>
            <a:ext cx="5791320" cy="3416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Don’t say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“What you mean is this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Say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“Let me repeat that” (then put it in better language)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wist their ideas as little as possible, but have them make sens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1107-ED64-4D48-982D-1546F00231F5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57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Definitely Wro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457200" y="1295280"/>
            <a:ext cx="2514600" cy="4513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mes up with comments to questions and respons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comments are obviously incorrec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505320" y="1219320"/>
            <a:ext cx="5638680" cy="4338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Say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“I can see how you feel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Say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“I can see your point.  Can we reconcile that with…(the subject at han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ndle delicately so not to embarrass the stude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9003-C675-4DBF-B60D-A1C44BC4D12A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Asks You for Your Opin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457200" y="1219320"/>
            <a:ext cx="2514600" cy="5069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rying to put you on the spo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rying to have you support one view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simply be looking for your advi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00400" y="1219320"/>
            <a:ext cx="5791320" cy="5435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nerally, avoid solving students problem…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Help, ye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Don’t take side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re are times when you must give a direct answer.  Determine reason for your view first.  Say, 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“First, let’s get some other opinions…” then ask another student for their point of view.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YOU SELECT THE STUDEN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5EF8-4E07-49EC-A06E-4722B9492AEF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83808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a447"/>
                </a:solidFill>
                <a:latin typeface="Constantia"/>
              </a:rPr>
              <a:t>Student Behavi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80880" y="533520"/>
            <a:ext cx="655344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Won’t Tal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80880" y="1295280"/>
            <a:ext cx="2514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h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or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differe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eels Superio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imi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secu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352680" y="1295280"/>
            <a:ext cx="5791320" cy="5169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What to d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Your action depends on their motiv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rouse their interest, ask their opin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all on the person next to them.  Then ask their opinion of the answ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f close to the student, ask their opinion so they feel they are talking to you not the cla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r “superior” type, ask view indicating respect  held for experience.  Be careful, the group may resent the com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Use a provocative question to elicit their respon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f first time to talk, compliment.  Be since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73FA-7D30-4C78-AFEF-FB67A689198F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362320" y="380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REMEMBER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80880" y="1219320"/>
            <a:ext cx="8305920" cy="5275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encount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disruptive student behavio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 must deal with it for the good of the cla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r entire presentation and the ability of the class to learn will be effect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r response should b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liminate or minimiz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intain learner self e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void further disru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3a447"/>
                </a:solidFill>
                <a:latin typeface="Arial"/>
              </a:rPr>
              <a:t>Remember, body language says more than words do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093E-2413-4B71-BBD9-C2C6A5940B91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4"/>
          <p:cNvSpPr txBox="1"/>
          <p:nvPr/>
        </p:nvSpPr>
        <p:spPr>
          <a:xfrm>
            <a:off x="762120" y="1066680"/>
            <a:ext cx="7619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3a447"/>
                </a:solidFill>
                <a:latin typeface="+mj-lt"/>
              </a:rPr>
              <a:t>QUESTIONS?</a:t>
            </a:r>
            <a:endParaRPr b="1" lang="en-US" sz="3600" spc="1" strike="noStrike">
              <a:ln w="12600">
                <a:solidFill>
                  <a:srgbClr val="b2b2b2"/>
                </a:solidFill>
                <a:miter/>
              </a:ln>
              <a:solidFill>
                <a:srgbClr val="f3a447"/>
              </a:solidFill>
              <a:latin typeface="+mj-lt"/>
              <a:ea typeface="+mj-lt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8F1A-7C9A-497E-89C3-8168B2EABEFB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United States Department of Justice, Federal Bureau of Investigation, Instructor Development Cours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  “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Getting Appropriate Participation,”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The Training and Development Sourcebook,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loyd S. Baird, Craig Eric Schneider, and Dugan Laird, 1983, Human Resources Development Press, Amherst, Massachusett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DE41-68E9-425F-AD9F-1751AD83392F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457200" y="1447920"/>
            <a:ext cx="8305920" cy="4018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Learning 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The student will be able to recognize the types of student behaviors.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The student will be able to discuss the methods used to solve unwanted student behavio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8510-5475-4531-85FC-E716A6C82AF1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457200" y="533520"/>
            <a:ext cx="8305920" cy="618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As an Instructor, you would like to think your class will b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Informati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Run smoothl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Be fun, 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Benefit each stud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F91C-5818-485D-9478-07FE99E26D55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6.1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Learning Objective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Identify the types of student behaviors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337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01C-70E8-496F-8A2A-EB3C82AE17D2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04920" y="380880"/>
            <a:ext cx="8458200" cy="173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Unfortunately, you will have students who, intentionally or not, will detract from everyone’s learning experi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3520" y="2743200"/>
            <a:ext cx="7924680" cy="369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As an Instructor, you will have to deal with thi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Quickl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Positively,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nstantia"/>
              </a:rPr>
              <a:t>a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1218-1B18-44B5-8609-CEF65E586558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533520" y="1523880"/>
            <a:ext cx="8153280" cy="438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If your response to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nstantia"/>
              </a:rPr>
              <a:t>unwanted behavior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 is negative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You can destroy the trust you built with the students and lose the clas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00FA-9FC4-4775-AC05-6511C4CEB246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762120" y="609480"/>
            <a:ext cx="7619760" cy="6739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Your response will effect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e student causing the “problem”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ll the other stud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Constantia"/>
              </a:rPr>
              <a:t>Remember body language says more than word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6161-45B5-4769-A0AB-405A204C8D19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You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nstantia"/>
              </a:rPr>
              <a:t>must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 deal with inappropriate student behavior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nstantia"/>
              </a:rPr>
              <a:t>for the good of the class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1043-7E2D-4346-9A5E-511ECD077BA1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23:05:26Z</dcterms:created>
  <dc:creator>Texas Commission on Law Enforcement</dc:creator>
  <dc:description/>
  <dc:language>en-US</dc:language>
  <cp:lastModifiedBy>lbeard</cp:lastModifiedBy>
  <dcterms:modified xsi:type="dcterms:W3CDTF">2010-10-21T19:23:27Z</dcterms:modified>
  <cp:revision>86</cp:revision>
  <dc:subject/>
  <dc:title>Slide 1</dc:title>
</cp:coreProperties>
</file>